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02A7-3058-431A-BCE9-ABBCFA7F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C399-C8A7-4F2C-AF1C-05570D39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C775-6122-4AD6-8947-6A004BFA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8EC4-F508-4C07-8018-C712B3AA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CF60-A998-419A-BA03-2638E9DF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4C96-EC9B-45BD-ABEB-36854771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E3AE-C6B3-409D-BC4E-70DE9D5A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52AD-9DB8-4192-B17E-4B2FDBCB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D2F5-F40D-4597-AE97-42B83D2C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E691-E07F-44FF-9BBF-D8784A3F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8ED9-39AE-4296-98C2-37382F04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53A8-FDBC-4671-A3AF-FD0F93F9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1227-4432-4340-9F3F-EA420726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2CBE-8F5A-415D-89B0-D4E7E99C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117D-3EB0-4AF4-AFB2-0D34291F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F4B2-4FFB-4BBA-B804-40BCEEDB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A1E2-D2AC-4160-9696-BD27BC3A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AD5A7-1A45-47BC-82BD-563D45F56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33B80-7B12-43DD-A140-F5F54B93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E0B5D-2EED-4179-833C-16AE2F38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1CD85-9AC4-4BA4-8049-4FFC0653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451BD-62D2-4987-9F15-7274E6F3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0556-F016-4810-A61E-3A44F46C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4C2C8-1D0A-4217-A5C1-0FD20B7E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40B43-90BB-4A27-A4EC-99C5DD67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C3275-8D6A-44B6-9D16-F5DDFA6C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F97B2-76DD-4507-B4AF-751629AF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FDB63-E192-4354-B980-484AF817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B5DAB-E9B9-4C04-91D0-3A184E51C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37157-D6F6-4DEC-8BEB-C551EB5B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BFE2-BE15-4141-8245-E7F24610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3AFF-FF60-4898-B098-817BECDC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44EB-72B0-4229-90EB-BF6F8EB6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27E2-7ECD-4BE1-9034-7C1A623F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EF4A-8BA8-42DA-9AC3-767DE9BC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5AE1-A293-4A8C-A38D-367EAA4D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E0B1-3E10-4408-8A66-74730A6A74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A5F7-3C0A-4668-BC3B-4EADF8C240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765A-989F-45B8-96A2-92145B0E69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12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13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12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6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添加下划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54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添加下划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54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向内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向内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忽明忽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5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忽明忽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5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突出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indefinite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突出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8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随机线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10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10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随机线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6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5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上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10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上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10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下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1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下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1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压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10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压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10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典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典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升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1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7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7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升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1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97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97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逆序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5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逆序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10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5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展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59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10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展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95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4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10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20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767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767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4" dur="767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6" dur="767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20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767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2" dur="767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4" dur="767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6" dur="767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弹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20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弹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20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字幕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字幕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椭圆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23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38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dur="2000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40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椭圆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23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浮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799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浮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799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239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95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97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155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09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97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玩具风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95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7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7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玩具风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7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7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标题弧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20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标题弧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20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飞旋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10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20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dur="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飞旋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10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20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dur="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放大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44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7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58" dur="500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8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5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dur="5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放大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44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5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6" dur="500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8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5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dur="5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线形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5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dur="5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线形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5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dur="5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有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有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1T04:26:34Z</dcterms:created>
  <dc:creator/>
  <dc:description/>
  <dc:language>en-US</dc:language>
  <cp:lastModifiedBy>i-hongys</cp:lastModifiedBy>
  <dcterms:modified xsi:type="dcterms:W3CDTF">2000-12-21T04:26:5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2052</vt:r8>
  </property>
  <property fmtid="{D5CDD505-2E9C-101B-9397-08002B2CF9AE}" pid="3" name="Version">
    <vt:r8>4</vt:r8>
  </property>
</Properties>
</file>